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2925"/>
        <c:axId val="6169714"/>
      </c:barChart>
      <c:catAx>
        <c:axId val="86582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714"/>
        <c:crosses val="autoZero"/>
        <c:auto val="1"/>
        <c:lblAlgn val="ctr"/>
        <c:lblOffset val="100"/>
        <c:noMultiLvlLbl val="0"/>
      </c:catAx>
      <c:valAx>
        <c:axId val="6169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2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2AA-83BF-43C2-B959-CFE77D5D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A3D-C8B2-4C73-956B-E9F4830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656-AD59-4DCB-AFF9-2BF9722E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BD6-6B90-4613-AD54-EDC8DC6F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4A5-F5B3-4654-B147-C174F864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168-ABBD-4CB1-8F3B-AECE6FA0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F00-B448-4774-B225-F8F0381C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72B-8A08-4D8A-ADAB-0058B3F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45C-1BFD-4163-92DD-73C9E6CA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4C2-C643-4ABA-B65A-6010962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4BE-0EB1-402C-A902-67D6C8F0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962-08D8-4F6A-8E3E-9D263DB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6238-FF5B-421E-BEE8-72E36050E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