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07286"/>
        <c:axId val="87362668"/>
      </c:barChart>
      <c:catAx>
        <c:axId val="43807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2668"/>
        <c:crosses val="autoZero"/>
        <c:auto val="1"/>
        <c:lblAlgn val="ctr"/>
        <c:lblOffset val="100"/>
        <c:noMultiLvlLbl val="0"/>
      </c:catAx>
      <c:valAx>
        <c:axId val="87362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07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9FB-B3DE-4335-9098-3F032D34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984-869A-44C5-9226-4CD85EE8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940-BF09-43F0-80EB-0936C3EC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B8D-6A96-4569-99B7-76CFEFCC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0F1-DDE1-43B0-BFCC-69497BA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B83-9CFF-46C3-B04E-2F4B079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4D4-BA80-41C9-8ADA-1076C1FE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B28-9D44-42AF-BFD7-FA76C21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E51-4038-41FD-8552-2B429137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B03-AD28-4C02-8AF3-9B9C34D5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33B-5B64-435D-B2E7-3AB9409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E9D-3BC0-4B49-B977-2456679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7E020-4A58-44D8-A613-4410B774F9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